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47B-5601-4042-BB71-DD605A0B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A1D-2067-4B10-B01F-07839238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A92-9AC9-458D-A2FE-DBA223FF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772-4A05-487D-8DAB-EB09CEAA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6E01-46B0-4683-86B6-5DE7CAAF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AA3D-42C2-4A38-8ACB-72271AEF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45F7-1E85-45D2-91BA-47A1EB47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77CD-4B0A-4F65-AE5D-04833FC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8C49-C98D-4EED-99BA-6C042B51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0529-A820-4745-ABA2-F8EC6DEB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E40B-5068-41EF-94C3-A9FDE7BB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9E1-B8B3-4A40-8CCB-23DC3760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8CD0-5225-4834-A2A7-002E9A71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4498-77FA-476A-B3B5-6CA9F7A4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DE5F-1B23-411D-9C45-A1CB653E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68C7-2E35-4D0E-99EF-5024FDF3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6C95-B467-442C-9D3E-40D0B578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694-59E2-4242-9D82-43E38D49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5BE-8F53-4E67-9D6A-D319B8A3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179-A950-4C41-B42D-21BFA108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F1C-6579-42DC-B7FD-8731DB4A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031-6BA7-4CB7-8060-7F7A74E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818-F53E-4924-B9D7-25239EFA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2B4-83D3-4E01-874D-4DF1A4E7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48EA-9423-49F5-A1B8-7942800222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2DE5-1EB7-416B-9AD8-A6119F32DB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ФИЗИЧЕСКОЙ КУЛЬТУРЫ  И СПОРТА КРАСНОДАРСКОГО КРАЯ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ГБУ КК «РЕГИОНАЛЬНЫЙ ЦЕНТР СПОРТИВНОЙ ПОДГОТОВКИ ПО ЛЕГКОЙ АТЛЕТИКЕ»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ЮФО и С-КФО (мужчины и женщины), первенство ЮФО и С-КФО (молодежь мужчины и женщины до 23 лет, юниоры и юниорки до 20 лет, юноши и девушки до 18 лет) (длинные мет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-15.01.2017 г.                                                                              г. Краснод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пионат ЮФО и С-КФО (мужчины и женщины), первенство ЮФО и С-КФО (молодежь мужчины и женщины до 23 лет, юниоры и юниорки до 20 лет, юноши и девушки до 18 лет) (длинные метания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1804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В. Смоле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А. Ле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С. Коробей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А. Бурм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А. Рыженк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2</cp:lastModifiedBy>
  <cp:lastPrinted>2017-01-14T10:43:08Z</cp:lastPrinted>
  <dcterms:modified xsi:type="dcterms:W3CDTF">2017-01-14T13:59:50Z</dcterms:modified>
  <cp:revision>54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